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39E-5F1F-468B-8D71-852762B2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4E6-7402-4B16-8BDD-EE7EEE17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EC3-AFAB-47B5-B70E-52F33A16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979-71C7-46EB-A756-FAC9DEAD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F75-20F3-4CAE-88E9-386FC57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61B-B22D-4023-82AF-A4C253E0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CEC-D0CD-4BFB-BB50-33373C9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88F-F256-4386-BA93-198EEAB4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F50-EC7D-4625-9F7E-A7C3A6FD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BC2-30A3-4E9D-BB9D-51D11443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008-D863-4EB8-A1F7-7898BC6C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E1B-49A8-413E-8D2D-5887695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496-F3B7-4D8D-9982-D98551BF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sillyputty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eb.mit.edu/invent/iow/sillyputty.html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eb.mit.edu/invent/iow/sillyputty.html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28600" cy="8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038000">
            <a:off x="2806920" y="-1086480"/>
            <a:ext cx="4640400" cy="8032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il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Put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510552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tne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dnesday, December 0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486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James 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43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utty head"/>
          <p:cNvPicPr/>
          <p:nvPr/>
        </p:nvPicPr>
        <p:blipFill>
          <a:blip r:embed="rId1"/>
          <a:stretch/>
        </p:blipFill>
        <p:spPr>
          <a:xfrm rot="20449800">
            <a:off x="609480" y="449532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4648320"/>
            <a:ext cx="2362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lly Put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ursday, December 0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sillyput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utty Man"/>
          <p:cNvPicPr/>
          <p:nvPr/>
        </p:nvPicPr>
        <p:blipFill>
          <a:blip r:embed="rId3"/>
          <a:stretch/>
        </p:blipFill>
        <p:spPr>
          <a:xfrm rot="373200">
            <a:off x="4723920" y="426672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4191120"/>
            <a:ext cx="2209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lly Put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December 01, 20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sillyput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utty Fortress"/>
          <p:cNvPicPr/>
          <p:nvPr/>
        </p:nvPicPr>
        <p:blipFill>
          <a:blip r:embed="rId5"/>
          <a:stretch/>
        </p:blipFill>
        <p:spPr>
          <a:xfrm rot="253800">
            <a:off x="380880" y="304920"/>
            <a:ext cx="5334120" cy="403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38088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illy Put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December 0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eb.mit.edu/invent/iow/sillyput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lly putty’s original name was “Nutty Putty”, Mostly because it was a ‘‘nutty’’, or crazy substanc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Silly Putty is made up of boric acid and silicon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Silly Putty can copy any printed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ecause Silly Putty can copy most all printed information most spies used it to gather importan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lly putty was essential million dollar seller mostly because it could do practically any thing like hol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urnishing steady to holding tools in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ight before Easter James chose to put the putty into eggs for a little bit more fun around Easter time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</a:t>
            </a: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J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mes</a:t>
            </a: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 W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James was an G.E. engineer when he mixed the boric acid and the silicone 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In 1949 James attended a party which Silly Putty was the main entertai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ames died in 1976 but Silly Putty is still a recognized name in over 95% of American house hol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mes’s product left him an estate of $140 m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41Z</dcterms:created>
  <dc:creator>install</dc:creator>
  <dc:description/>
  <dc:language>en-US</dc:language>
  <cp:lastModifiedBy>install</cp:lastModifiedBy>
  <dcterms:modified xsi:type="dcterms:W3CDTF">2011-12-16T16:42:34Z</dcterms:modified>
  <cp:revision>13</cp:revision>
  <dc:subject/>
  <dc:title>Slide 1</dc:title>
</cp:coreProperties>
</file>